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4ED-F3A9-4E2D-84E2-ECE589A7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9B-0A67-4018-BCF8-ABE01F4F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054-AEE5-4AAE-895F-F265FC5B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771-7CDD-45F2-93F9-802902ED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123-8B92-4C6D-BEDD-98DC904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B83-95AA-4A7F-B29B-BA3DFAA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CB0-4C40-4586-8A6F-4B7D774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0DC-1160-4ECA-8236-EE2E19FA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F61-BF44-4EFA-B56B-8DC01D9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DBA-1026-47A3-8E72-6E5A347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264-F714-43C9-A874-7CB002D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16E-CB0D-43AB-AD4A-832C54C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5008-A0D3-426C-9002-6DBF703B9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4960" y="838080"/>
            <a:ext cx="510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Chauc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w Cen MT"/>
              </a:rPr>
              <a:t>The Canterbury Tales</a:t>
            </a:r>
            <a:endParaRPr b="1" lang="en-US" sz="5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English Literature and Composi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838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419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The Pilgrimage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tarted at Southwark, Lond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ny different pilgrimage routes started her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55 miles of dangerous, muddy, rutted, rural Roman roa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lgrimage season began in April with the return of spring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212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Chaucer’s Pilgrim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676520"/>
            <a:ext cx="3581280" cy="3916080"/>
            <a:chOff x="457200" y="1676520"/>
            <a:chExt cx="3581280" cy="3916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3581280" cy="39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57200" y="1676520"/>
              <a:ext cx="3581280" cy="391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720" y="1371240"/>
            <a:ext cx="441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29 pilgrims including Chaucer himsel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 Poet-Pilgri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present the strata of medieval socie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tarted from the Tabard Inn in Southwa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gree to pass the time with a storytelling competition suggested by their host, Harry Bailey, owner of the Tabar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Layers of Society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Traditional Division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figh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pra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ose who labor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1066680"/>
            <a:ext cx="5029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Levels of Societ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Aristocrac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Middle Clas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Lower Class and Ruffian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Look out for....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hysical characteristic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edieval ideology stated that a person’s physical appearance revealed their inner charact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ife of Bath’s gap teeth, Prioress’ wide forehea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ucer also includes these bits to let you know that many characters aren’t doing what they shou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rioress’s pets and jewelry, Friar’s obesity, Pardoner’s long hai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rony and Humo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ucer uses puns and understatement to poke fun at his Pilgrim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s humor is never cruel.  He seems to recognize that all mankind has a bit of the ridiculous within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Now, let’s join the pilgrimage....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offrey Chaucer (1343 – 1400)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orn to a London family with land and money, but no titl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Limited chances for social growth/advancemen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Estimated birth date:  1340 – 1345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Was a brilliant scholar and was well-educated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came a official in the government, married a woman of rank, and was sent on diplomatic mission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ad considerable political influenc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offrey Chaucer, cont.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as a government official first and a writer seco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386 – lost political influence when his patron left the countr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ost critics believe this is when he began the CT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389 – patron returns, gives C. a new, better government po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ied October 25, 140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uried in Westminster Abbe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rst writer entombed in Poets’ Corn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Not because of literature, but because of loyal gov. servic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Westminster Abbey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69840" y="1600200"/>
            <a:ext cx="30132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236376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The Canterbury Tale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Posthumous publication of unfinished manuscript 1400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ach pilgrim was to have had 2 tales; only 24 complete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mportant because...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irst book of poetry written in the English languag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haucer chose English over Latin and Italia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erves as a window into medieval social lif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ptured the variations of human temperament and behavio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We still know these peopl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Literary Matter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ramed tal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rologue, story-telling conte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earkens to Boccaccio’s </a:t>
            </a:r>
            <a:r>
              <a:rPr b="0" i="1" lang="en-US" sz="2800" spc="-1" strike="noStrike">
                <a:solidFill>
                  <a:srgbClr val="ffffff"/>
                </a:solidFill>
                <a:latin typeface="Tw Cen MT"/>
              </a:rPr>
              <a:t>Decamer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Uses iambic pentameter because it’s so close to the natural rhythm of English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Heroic couplets – iambic pentameter + rhyming couplet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haracterization method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Genres within the Tales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ral different genres are present in the larger body of works.  These include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rtly romance (courtly love) – Knight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abliau – a humorous, satirical, and often bawdy tale dealing with basic human desire for money, sex, or food – Miller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ous legend (Saints’ Lives) – Prioress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llegory – the characters represent some trait of human nature or some abstract concep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east Fable – Nun’s Priest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ermo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Moral Tales – Pardoner’s Tal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bf1"/>
                </a:solidFill>
                <a:latin typeface="Tw Cen MT"/>
              </a:rPr>
              <a:t>Why Canterbury?</a:t>
            </a:r>
            <a:endParaRPr b="1" lang="en-US" sz="44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nterbury Cathedral was the site of a shrine to St. Thomas a Becke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ilgrims believed relics of Becket’s shrine could heal sicknes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Other reason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iving thanks (Knight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roving chances of salv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tonement for si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mple escape of tra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24280" y="1371600"/>
            <a:ext cx="3942000" cy="4876920"/>
            <a:chOff x="4724280" y="1371600"/>
            <a:chExt cx="3942000" cy="48769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724280" y="1371600"/>
              <a:ext cx="39420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4724280" y="1371600"/>
              <a:ext cx="394200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Tw Cen MT"/>
              </a:rPr>
              <a:t>St. Thomas a Becket</a:t>
            </a:r>
            <a:endParaRPr b="1" lang="en-US" sz="4000" spc="-1" strike="noStrike">
              <a:solidFill>
                <a:srgbClr val="e3ebf1"/>
              </a:solidFill>
              <a:latin typeface="Tw Cen MT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7200" y="1371600"/>
            <a:ext cx="3281400" cy="4648320"/>
            <a:chOff x="457200" y="1371600"/>
            <a:chExt cx="3281400" cy="46483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32814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457200" y="1371600"/>
              <a:ext cx="32814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21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rchbishop of Canterbury who excommunicated bishops who supported King Henry II’s idea that the State could try clergy for crim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Henry cries, “Will no one rid me of this meddlesome priest?”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4 of his knights race to Canterbury and murder Becket at the altar of the church December 29, 1170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This battle between church and state for primacy would continue until Henry VIII broke with Rom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5:39:29Z</dcterms:created>
  <dc:creator>Shauna Rynn Waters</dc:creator>
  <dc:description/>
  <dc:language>en-US</dc:language>
  <cp:lastModifiedBy>lcipriano</cp:lastModifiedBy>
  <dcterms:modified xsi:type="dcterms:W3CDTF">2009-11-03T14:12:16Z</dcterms:modified>
  <cp:revision>17</cp:revision>
  <dc:subject/>
  <dc:title>Chaucer  and  The Canterbury Tales</dc:title>
</cp:coreProperties>
</file>